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DCAB-1043-4C6C-BC4A-1B587EDB4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883F-E160-48D6-A1F6-605A11AFB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537C-76C0-492C-B0ED-749030CC5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924C-09F2-4B0F-87C0-56D4C097C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B0AC5-547B-4ED8-8795-58197C12E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DCBD1-6350-4FE9-8857-FA62746B2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45A1C-52DA-4AAF-B8CA-47F0DF8DA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A62E3-7AB4-4E15-87F1-D9FFDDCA5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C7E39-D223-4607-A984-07C72767A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A736A-4DDF-4655-9646-8520DEC6F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118C1-646F-43AB-8FFE-1255E98E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CD99-63C5-4865-BE03-11327194B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D98EC-B28B-49C4-95E0-28DCBDC9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06C08-6A4A-4DB8-9720-B89DC110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747CF-B1B7-463A-B247-BA81BD5FB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85746-4477-4C30-8506-8CD0300B4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4008F-47C1-4619-9213-F772D3CC4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1710-8D5D-4E05-8B55-0697DC4AE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45E3-9A2F-4DFA-AB52-8E88494F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3AAE-5EE8-40B6-B5C3-4B0687BB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5CB5-423F-4DEB-8798-E37E1CA2E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2DE3-EEE5-4CE7-8C6A-B84CBCE9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414F-FF14-407F-9AE1-FE950CC7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BD32-0BE7-409A-B17A-0E0DDD85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8DCC4-50F4-4D27-BEB6-65C3567375B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3FBE6-6A06-4CC1-A2B7-6C30FDC67DF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“</a:t>
            </a: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Give Us A King”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The United Kingdom, Part 2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Quarter 5, Lesson 1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 Kings 3-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ages 114-117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view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vid’s last charge to Solom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lomon “cleaned” house of his father’s enemi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donijah killed for asking for one of David’s wiv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biathar, the priest, demoted and restricted to the city of Anathot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oab and Shimei kill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 Treaty With Egypt</a:t>
            </a:r>
            <a:br>
              <a:rPr sz="40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1 Kings 3:1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lomon made treati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sually resulted in him marrying a foreign wife – not wise to d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sed alliances for strength – not Go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lomon/the Pharaoh seal the de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lomon would marry his daught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haraoh would give them Gezer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1 Kings 9:16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pecial” house built for her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2 Chron. 8:11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zoom dir="in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olomon Asked For Wisdom</a:t>
            </a:r>
            <a:br>
              <a:rPr sz="40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1 Kings 3:2-15; 2 Chron. 1:1-13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srael offered sacrifices in various high plac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lomon offered sacrifices at Gibe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d asked Solomon what he want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lomon’s request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ave thanks for several thing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sked for wisdom to guide the peop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nowledge of right and wro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lomon granted wisdom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an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rich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zoom dir="in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wo Women And A Baby</a:t>
            </a:r>
            <a:br>
              <a:rPr sz="40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1 Kings 3:16-28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wo prostitutes came before Solom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ne claimed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he gave birth to a chil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aid other woman had a chil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so claimed that the other woman smothered her own chil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ther woman swapped the boy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ther woman denied the charg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lomon, in his wisdom, found out to whom the child really belong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eople were in awe of his wisdo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zoom dir="in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277920"/>
            <a:ext cx="8534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olomon Organizes His Kingdom</a:t>
            </a:r>
            <a:br>
              <a:rPr sz="40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1 Kings 4:1-28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vided the kingdom into 12 distric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ach district had a prince in charg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ach district provided food for one month of the year for the k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urrounding kings paid tribu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osperity and happiness abound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eace in the la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eople were “eating, drinking and making merry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is kingdom was larg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zoom dir="in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2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7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7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2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5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8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3" dur="5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219320" y="0"/>
            <a:ext cx="655308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olomon’s Wisdom</a:t>
            </a:r>
            <a:br>
              <a:rPr sz="40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1 Kings 4:29-34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lomon’s wisdom far exceeded the wise men of his da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lomon’s fame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rote 3,000 proverbs (wrote most of the book of Proverb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,005 song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rote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ong of Solom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cclesiast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nd a couple of psalm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zoom dir="in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2T14:14:44Z</dcterms:created>
  <dc:creator>Frank D Vines</dc:creator>
  <dc:description/>
  <dc:language>en-US</dc:language>
  <cp:lastModifiedBy>Frank D Vines</cp:lastModifiedBy>
  <dcterms:modified xsi:type="dcterms:W3CDTF">2005-08-10T22:50:08Z</dcterms:modified>
  <cp:revision>11</cp:revision>
  <dc:subject/>
  <dc:title>“Give Us A King” The United Kingdom, Part 2</dc:title>
</cp:coreProperties>
</file>